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8D6-609F-47C2-872A-8319E7E9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56F-7D1B-4E01-B53F-62EFFF09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317-3363-4616-8785-05B56439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4D4-94CB-496D-B806-487FEE0B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BF2-CC7C-4D0F-897E-45223A27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229-88D1-4BEE-BDE9-8B2C5E40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D8F-8A86-400E-9C3C-7FA71459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6A9-54F9-4BB5-829F-C52F8595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5DD-55F4-467C-ADAD-26C9E210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89A-6E5A-47B4-B4C1-7DE2732A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1E6-0D98-47BD-A97E-8840187E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C25-A24F-42F7-9FDB-3516F192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6F06-B0E0-4F85-BE5C-0C2FF0C07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B175-8C3A-4B6C-B613-29AF5B0EA3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ары имя-значение разделяются амперсандом. Алфавитно-цифровые символы и некоторые знаки препинания, не имеющие специального значения (тире, подчеркивание) передаются как есть. Остальные символы кодируются в виде "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%N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", где NM - двузначный шестнадцатеричный код симв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500" spc="-1" strike="noStrike">
                <a:solidFill>
                  <a:srgbClr val="3333ff"/>
                </a:solidFill>
                <a:latin typeface="Tahoma"/>
              </a:rPr>
              <a:t>.../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prog?birthday=11%2F05%2F73&amp;name=John+Sm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birthda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"11/05/73 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"John Smith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4E71-0E33-45A3-BFE2-C7292AB4B1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UTH_TYPE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-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етод аутентифицирования, использованный для опознания пользователя. См. также REMOTE_USER и REMOTE_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ONTENT_LENGTH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ина данных запроса в байтах, переданных CGI-скрипту через стандартный в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ONTENT_TYPE MIME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ип данных за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OCUMENT_ROO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Корневой каталог дерева документов веб-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ATEWAY_INTERFAC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спользуемая версия C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BE66-B80C-4B8A-BFFE-35C119BD64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ACCEPT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Список MIME-типов данных, которые клиент может прин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FROM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Адрес электронной почты пользователя, сделавшего запрос (многие броузеры не передают такие данные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REFERER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URL документа, в котором находилась ссылка, вызвавшая настоящий запро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USER_AGENT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Броузер клиент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PATH_TRANSLATED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PATH_INFO, преобразованное в полный путь в файловой системе серве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10E9-71F4-4120-8194-3B3061E97C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анные запроса, переданные в составе URL вслед за вопросительным зна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ADDR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IP-адрес кли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HO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мя DNS клие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USER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Аутентифицированное имя пользов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EST_METHOD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Метод запроса (GET, POST, HEAD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CRIPT_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Виртуальный путь (например, /cgi-bin/program.pl) к исполняемому CGI-скрип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B665-B98B-4060-AD29-AA881B0043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DNS-имя сервера или, при невозможности определить имя, его IP-адр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POR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Номер порта 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PROTOCO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мя и версия протокола, через который был сделан запрос (например, HTTP/1.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SOFTWAR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Тип и номер версии ПО веб-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2DF7-C9A8-42D2-BB96-722C1C9FDA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скольку все HTTP-запросы независимы друг от друга и на уровне протокола HTTP отсутствует понятие сеанса связи, CGI-программа запускается заново для каждого вновь поступившего запроса, неважно имеет ли он связь с предыдущими или нет. Таким образом, существует проблема сохранения состояния логического сеанса работы пользователя между его последовательными запросами к CGI-программе. Для этого используются: cookies, сохранение состояния в базу данных, сохранение в файл, скрытые поля.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Cook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9131-4715-4CC7-BF9A-8D4D0127E3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cookies - сохранение на компьютере клиен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крытые поля - сохранение внутри формы, посылаемой клиент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хранение в файле какого-либо формата на серве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хранение в параллельно работающей базе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Методы сохранения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808C-4EBF-447B-B336-7DDB72F653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и программировании CGI-скриптов всегда следует помнить, что при каждом очередном запросе скрипт начинает свою работу сначала, не имея никакой предыстории взаимодействия пользователя с этим или другими скрипт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ограммирование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EEC8-A4E3-4A72-AEDC-5643962684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y $x;         # $x создается, равно un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0;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undef;    # опять unde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9245-D828-43F6-9BBF-C3198B2F45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ом (list) называется упорядоченная последовательность скалярных значений; порядковые номера (индексы) начинаются с нуля. Отдельно стоящие списки заключаются в скоб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($x, "abc", 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ращение к элементу списка осуществляется путем указания индекса этого элемента в квадратных скобка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$y=($x, "abc", 15)[1];      # $y="abc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и и масс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6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50920" y="2421000"/>
            <a:ext cx="6913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C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веб-программ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0971-EDCA-4CE2-AA3B-7E44A03FF6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f (...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условие ? выражение_да : выражение_нет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while(...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o {...} while (..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for (...;...;...;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f ($a&lt;$b) { $a=$b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while ($a&lt;$b) { some_function($a)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$a=$b if ($a&lt;$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пера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2562-E7A0-490A-9747-2BAC4B02C8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$x="abc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@array=('c','d','e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%hash=( a =&gt; "A", b=&gt; "B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print "this is \$x: \"$x\"; \nthis is element 2 of \@array: \"$array[2]\";\n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"and \$hash{a} is \"$hash{a}\"\n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his is $x: "abc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his is element 2 of @array: "e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and $hash{a} is "A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ие действия предпринимает сервер, если для обработки поступившего запроса требуется запуск CGI-програм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Почему CGI-программа должна выдавать заголовок “Content-Type: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позволяет делать модуль mod_per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заключается основная особенность CGI-программи­р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ит проблема сохранения состояния в CGI-программировании и какие существуют способы ее решения? Укажите их достоинства и недост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Почему язык Perl считается наиболее удобным для написания CGI-прило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.Р.Левин, К.Бароди. Секреты Интернет. – К.: Диалектика, ICE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S.Spainbour, V.Quercia. Webmaster in a Nutshell. – O’Reily &amp; Associates, Inc.,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Интерфейс CGI, его задачи и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Исполнения CGI-скрип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труктура URL и кодирование данных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Переменные окружения CG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Программирование CGI-скрип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6) Введение в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EFB9-552B-43A1-900E-5F7E65E9DF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нтерфейс CGI представляет собой спецификацию взаимодействия веб-сервера и внешней программы, которую веб-сервер запускает для обработки запроса. CGI определяет каким образом данные, предоставленные клиентом в запросе, передаются программе, как программа возвращает сгенерированный HTML-контент серверу, и какие переменные окружения устанавливаются сервером при запуск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сновная концеп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1611-5A14-4A74-B002-C4C229AF8D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Клиент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жет запросить у веб-сервера как документ-файл с диска, так и документ, динамически формируемый некоторой внешней программой (как правило - в зависимости от данных, предоставленных пользователем при заполнении фор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Интерфейс CGI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едставляет собой спецификацию взаимодействия веб-сервера и внешней программы, которую веб-сервер запускает для обработки запроса. (Внешняя программа, вне зависимости от своей природы, часто называется CGI-скриптом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56C1-F7D9-4068-92C5-FBAD15C480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анные из заполненной клиентом HTML-формы могут передаваться на сервер двумя методами: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E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O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это определяется параметром method соответствующего тэг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&lt;form method=... action=...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первом случа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GET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анные присоединяются после вопросительного знака в конец URL, указанной в параметр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c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во втором случае - передаются в теле запроса - в секции, предназначенной для данных (следует после всех заголовков и пустой строки).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1680-1F5A-403A-A51C-7D1C47B5C3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Content-Type: text/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1&gt;Hello, world&lt;/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/BODY&gt;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TML&gt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Например, вывод CGI-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0CF2-A34D-425E-AB27-B20D440DB4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criptAlias /виртуальный/путь/ /путь/к/каталогу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criptAlias /cgi-bin/ /usr/local/www/cgi-bi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Это означает, что для обработки запроса URL вида http://your.server.com/cgi-bin/dir/script будет взят не файл script из каталога DocumentRoot/cgi-bin/dir/, а запущена программа /usr/local/www/cgi-bin/dir/scri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Конфигурирование сервера Ap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190E-928F-4C77-A1BF-F2FA338A2A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работы CGI-программ важное значение имеют част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UR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называемые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ATH_INFO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смотрим запрос с URL вид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http://my.server.com/cgi-bin/dir/prog/a/b?A=1&amp;B=qwe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PATH_INFO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/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/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=1&amp;B=qw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руктура UR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31:57Z</dcterms:modified>
  <cp:revision>192</cp:revision>
  <dc:subject/>
  <dc:title>Lecture Template </dc:title>
</cp:coreProperties>
</file>